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A45-7953-4E23-BE67-5A856548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197-2E7A-44BE-A35E-8881C4F2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6B8-030F-49EF-AC4C-F329A25C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9F3-FD90-4744-9AB7-86439001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48B6-64B2-4264-BF70-A45D4FD2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AEF-752D-4783-B00A-F98C6D28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906A-701C-4186-838D-ACD41BE1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3B2-663D-40E6-9798-3F81B643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3B24-7FB2-4AA3-A201-5D673764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0E1-7B51-422D-85FF-56D108AD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0477-E38C-4835-A145-86720F59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22F-56AF-4270-920C-44E4670B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8BC7-E31C-488A-8943-21FD2E3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6E01-C029-4C89-BCC3-F092517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1447-5AE6-4526-B429-3B530FB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DE6-3906-410D-AAC2-CD26C9DD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4A2D-5B54-4CD8-8086-EDA117BC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9B5-6452-4824-8FCC-DF5625D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2DB-13DF-498A-8F8B-AB5F0B3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51F-8084-4A49-9FD8-78B177B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D02-40EA-4F35-997E-ED4293F7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475-D59E-470A-88C8-CC3A2EE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C72-AF2A-48B5-ABF5-7556D685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096-4814-4752-B3A1-E2CBBDB6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DF46-0A3B-42DB-9052-73174456C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6C85-DFD2-455D-A5FB-CE88D542E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lim69.com/images/home-design-saota-nettleton-198-beautifully-modern-home-in-clifton-south-africa-modern-living-room-and-cool-infinity-pool-designs_f206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Mi Ca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52680" y="62485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por: Nicole Abba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715000" cy="382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66680" y="289548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garaje. El garaje es mui grande y magni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La Mansi</a:t>
            </a:r>
            <a:r>
              <a:rPr b="1" lang="en-US" sz="4400" spc="-1" strike="noStrike">
                <a:solidFill>
                  <a:srgbClr val="feec94"/>
                </a:solidFill>
                <a:latin typeface="Papyrus"/>
                <a:ea typeface="Arial"/>
              </a:rPr>
              <a:t>ó</a:t>
            </a: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79840" y="1754280"/>
            <a:ext cx="5106960" cy="3836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30481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pyrus"/>
              </a:rPr>
              <a:t>Es una mansi</a:t>
            </a:r>
            <a:r>
              <a:rPr b="0" lang="en-US" sz="2000" spc="-1" strike="noStrike">
                <a:solidFill>
                  <a:srgbClr val="ffffff"/>
                </a:solidFill>
                <a:latin typeface="Papyrus"/>
                <a:ea typeface="Arial"/>
              </a:rPr>
              <a:t>ón. La mansión es muy grande y magn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72520" cy="4000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429000" y="54100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a cocina. La cocina es increible y estupen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238880" y="220968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comedor. El comedor es moderno y fabil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Home Design, SAOTA Nettleton 198: Beautifully Modern Home in Clifton, South Africa: Modern Living Room And Cool Infinity Pool Desig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971800"/>
            <a:ext cx="5533920" cy="360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a sala. La sala es nueva y be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Ba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76880" cy="4151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2971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baño. El baño es grande y lujo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76880" cy="329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5334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cuarto. El cuarto es fabuloso y moder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953240" cy="3709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9920" y="37339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patio. El patio es grande y moder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El Jard</a:t>
            </a:r>
            <a:r>
              <a:rPr b="1" lang="en-US" sz="4400" spc="-1" strike="noStrike">
                <a:solidFill>
                  <a:srgbClr val="ffffff"/>
                </a:solidFill>
                <a:latin typeface="Papyrus"/>
              </a:rPr>
              <a:t>í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791320" cy="385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81280" y="1828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pyrus"/>
              </a:rPr>
              <a:t>Es un jardín. El jardín es grande y bon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9:09Z</dcterms:created>
  <dc:creator>abbatinenic</dc:creator>
  <dc:description/>
  <dc:language>en-US</dc:language>
  <cp:lastModifiedBy>abbatinenic</cp:lastModifiedBy>
  <dcterms:modified xsi:type="dcterms:W3CDTF">2012-10-26T17:03:09Z</dcterms:modified>
  <cp:revision>11</cp:revision>
  <dc:subject/>
  <dc:title>Mi Casa</dc:title>
</cp:coreProperties>
</file>